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FB8-A5FD-4799-9D70-C0AE4166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3FB-2649-4885-888F-E078A6DD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C65CE-1496-4069-8CF2-42A5B400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F407D-CFC5-4041-97B4-5D06F166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0E36F-58D1-4FB1-9BF6-E3896F78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B53E4-FD12-4A62-81DB-BF09A744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FE623-078F-4A44-BAF3-B9584C96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D01E0-EE1F-465E-A153-FF3C42CE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0041A-3B1A-429A-B7F1-F000B1D4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590FA-82AD-4305-811F-D472CC32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9FAB7-4EE3-485D-8303-1AAE9E08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1805D-402D-45A2-828F-E77D3AC8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901-C3F6-4872-983F-9BC4E198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95B97-E6E6-4C0B-B41A-E53F20FC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657DF-313A-4A7F-9FC1-90BF32DD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F6B24-4C17-4575-ADBF-3BECE4FC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B041E-5045-4508-829E-675F4B65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ABBA7-73D8-4325-B3F3-15D75678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88198-FA7E-4BF1-8401-9E14C48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F79F1-B1FB-4862-9978-0596D1A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163B9-B7B7-45E5-B477-22041F80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17937-F020-4FE4-A897-6ED1FC74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46FA6-D57A-4F6A-8BAE-35162D9D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D51-59E6-4966-8649-803F75CA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C5A0B-2030-434F-88AB-5F235C2E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48A38-AA97-4FE6-8921-236AD5C9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5F563-10A7-45A9-95A5-1789F32B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531EE-81DF-4147-8DCB-62EEF0BC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61C49-B202-438C-BEFA-375EDB4E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EA1F8-C8D5-49D1-8FDA-706EB995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387CB-B066-4339-908E-EAFED793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7B035-0336-4775-8B53-D3271759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5230F-D6C9-48D4-92EB-B3B0D3E7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B2AE6-41CF-44DA-BF81-2B185A5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78E5-D971-4647-949F-58E9B87C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1BBC6-BA35-456C-97B0-8A8B73A1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6B65D-63CE-4FB8-A76E-F7DB7441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FE8D4-8FF0-4F04-BB44-36F40A7E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C61E8-4F9F-4211-8F4E-294BD784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23A56-DE98-47CB-9A5F-B4A5637A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04417-8A9D-401B-90F8-D5E5D83B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60901-0068-498D-A7B4-52F780D6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BDFC8-774D-4686-AB33-02929DE0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31083-0BA7-4F80-AE3E-43FDBD7C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B3F15-C2FA-4E8B-92A5-A398DF0F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C2F6-CD24-4F7F-8FF7-1BFCA76F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13925-BF9F-43BC-8A59-BED9175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52974-C942-4E12-8E4A-F51BC20C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C26B1-43A2-4208-A1BC-254AB764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76C6E-B9B1-4A5B-BF13-641E4805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0AAA2-6A5C-4F1B-A49C-9E464482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32FE2-7599-45DD-96D6-5008B24B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CA390-AD37-4560-A6BE-9EEFE578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C4F46-35B3-4663-8E13-6D6A9183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8DA59-91F4-4A1C-B70A-6E3104E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25357-3CA0-4A4D-BBE6-BAF69831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3439-45C4-44FF-86C8-68EAA48D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266DF-72F3-4D88-97B1-BDE162FE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F5ED6-CD72-487F-B928-0D439031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1B4EB-0B94-40CF-AC8E-4BA124D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E1A45-6DB3-4858-BEA1-F45A4F8E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5B88E-A2DB-40E5-8AE8-C3AABDE8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5D09B-72EA-4C90-9726-47FB5301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DDA9D-29AD-4BE8-B947-8AE0AD70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01759-00D7-4AA2-B733-262AB7F4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B96E6-DCD1-462E-971D-22B89337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722CB-1131-4DD0-B557-760CF95F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3B6F-E632-41C5-9A28-758CF46C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B1768-DDC5-4A3D-9165-AF2170A8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D2762-0767-4315-9A87-2F3A6EF2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3F9D5-1190-4476-A217-E2A6F0E8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3A526-C18B-4E52-A940-DE9B1C0D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706EF-020A-46B0-AFF7-7161C5B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A1A97-50BA-46D1-A4F1-33378E04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6FFC3-217C-41DD-8DE0-EBFD5C30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A50C8-225C-4D71-AA65-7E25DC17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E768A-3B8E-459E-B7F4-9E059F57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92C1C-D1C0-4C2D-8470-6E963592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3706-AD83-43B6-9ACA-C88EC766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3E1DF-69FE-45CA-99A0-F371DED3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B0142-4393-42B3-85C8-F73B8D1E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E4308-EB70-44EA-840F-37EC376C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C48FC-F5A6-4AB1-AFC2-3EB6410F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9122C-B5AD-48A2-82D9-40E2EA5F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C995A-25E3-4BB7-B018-C071AE7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0E456-44A4-44BC-AE0D-CC5E5C37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AB2CC-F5B9-4932-B676-A64980DD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2F859-E1B1-46AF-98F7-B856EF80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CB63A-C02C-4126-A7D1-96851EEA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9A9F-A181-49E7-B6AF-87397891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A1056-7691-4899-9DDA-7CC0913C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60102-94BB-4C42-B980-EDA47E05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D6232-5A4F-458D-BCC8-6A93FCF4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6137A-2550-4A86-BDEE-9045FCEB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23474-8ABA-445E-9C50-E4831780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78E3B-DD89-46ED-9EAC-F3A27E53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C046C-4ED6-4F70-8909-1D6F520D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3EACF-34E9-4624-BBFE-918E2056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26934-5FC8-4F2C-B458-9512CD33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185DB-B807-4A56-A46B-16B8EB9C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BE68-4B3B-47B3-9AE8-20CB9A51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9BF2B-4201-411E-9C62-2B4C41F3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8E12A-0333-49C9-A93A-29E28FB8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078B1-AD13-476B-89C1-31413E1D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7FB11-4671-4793-AF5F-B6419BF2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A74B4-F864-4EF9-B77A-BC2B4F4A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DB7A89-8477-4DE7-9E95-D9CDB92E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60BEC-89AF-4867-9E4F-B967B887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5CC4B-A45A-43D1-B938-D0613449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56208-B495-4880-BDD6-4A66A346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B79BE-770F-4EA3-9123-3BADBD9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5C3-9695-4569-98B3-9E51F51B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928D-8052-4B6A-B739-04A8C66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7F523-B919-4948-ACD5-EFAEE3C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76DFC-857F-4089-AD2B-F269007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B8A56F-24E2-4C66-924D-80ACE07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A1803-7F40-4F7E-8182-528F33A9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8E8394-08B8-4E2D-B399-F7C3FB93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A776C6-F91C-4653-81E4-A2D217D1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1EF933-7B65-4C32-A448-C9BC8AED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DD8C8-9C44-4C2E-AA91-FDB0C212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A3896-20EF-4944-8D08-ADFBD87B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320FD-604C-4B3C-881E-B1CD67C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62A5-0AEA-43C0-A94B-2AB81BFF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33E3C-DF5E-40C3-99BC-7C2D846C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838AE-7A00-46FB-9F62-F7CE13E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A1749-A7C5-45EB-9DC8-73DE34F3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613F25-EDED-45AE-B3EF-061622E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6A109-4D45-4F42-B4FE-9DFD2555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8DB8BD-3A5D-4C8A-A7A3-461C32AF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6BDD8-1A3E-49A2-959D-C92FEFD9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838773-19E8-4DF8-8713-F7681802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C9604-22F5-4F27-8D7D-E65E8B9F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C92AA-3268-42DC-911E-3CD1752C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ABD1-5766-4F50-B4F3-46EC8923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1B198-CFD6-4FD4-B058-491ED0B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DD577-8549-4209-B430-78B62B86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330D7-7E61-414E-A412-EAAB826B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C2267-7B7F-41E1-B310-8BF31FEB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01F314-5642-413E-BA8B-B09DA39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D98FF2-340D-4068-A887-4F502959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B857A-EAE9-4DDC-B5B6-A374D75B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6C5DC-47CB-4DA6-B8EF-6D3DF181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3B8DD-5D85-45E6-B9A9-B23DE6B8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0BC93-BEEE-4824-A82E-C35B9870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478A-4B3F-45DE-A361-CD937571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315604-C055-477A-9A87-D86E4BC7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4A66D9-9108-4BB9-91C4-BE2F89A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F0C131-4121-4403-BC05-F8176BEC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3EE8A-8361-4528-B004-4916BEF0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B098C8-F754-49C2-A14E-FA542FC6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AF77FB-42B2-4229-9A5C-04A61C1C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E638C-F82B-4F8B-A161-1961CD39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1F402-9F84-445D-BD4F-C4B60380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1B41D4-C348-4A5D-AE3B-AC8896C3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9BEA3-9CAC-4891-A28D-8DF08B93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8449-0680-456F-8B34-C2B932B8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3BB872-75FF-4850-A802-086C3879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98E0A-A3F2-45D9-AD3F-6177A0A8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5754B4-6E22-46E4-9A31-84BBE862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52140-16D3-4D4C-BF4F-48EAB6EB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D8F3E-7064-4520-95D9-3956075B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A86F26-2383-4047-83F4-8D646C2A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2B24F-61FD-4A48-AC16-FF9AFA2E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D1A948-5566-4DAF-9A07-4CEB060D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0479B6-241C-40D0-8082-6383165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EB97C8-BE4F-472C-8891-79538F4B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00D2-5E4C-456E-A9E2-456D8B8D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28B4AD-70EF-48FC-88A4-CFAD4C34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D4ABC-F459-4819-8AF6-14D31A1A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03672A-E13D-4CCC-8AC4-31909E61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9937-8D36-4779-BB79-1DD1002D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7A92-23C4-4EAF-94B9-C4256CE3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D0EF-6FC1-4785-94FC-FF398F0F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8DB6-9D33-483F-9922-AE0F2F99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190-8FB6-46B6-B191-EE7EB6E9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15E6-B735-4714-9190-9FEE20F6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1F3B-7574-45F8-A5D7-9C9F4988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934C-9742-4FBF-B4EE-CCC66555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E317-2F73-4774-8C13-7811DA5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E7BC-F29C-4725-9DB1-283AB8A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8CBD-989C-46AD-9652-8ED3C7AC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6A5CF-53CB-4417-9C10-74DE6103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DC5ED-990E-42F8-A9F1-8993F229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8CF4-A46E-46F2-AA0A-DA99743E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EC49-A93E-425D-B56B-671340B9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AC2-063B-46FB-8CD8-AED997B9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784A-B792-4776-BCB8-C79C4322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6994F-E731-44EC-B708-1C78265B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51F05-BAFE-4A8F-8381-9124393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828D-514C-4D1A-9269-B74760F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CDB03-A56B-4F53-AF85-01E19D6B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2B68-CD94-4DAE-A5F5-6EBCBAEC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A041-FF1F-445A-B90F-72BF28A9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351E0-56F0-4F5D-A89E-429560BE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65F78-F2BC-4EEC-B7D5-77F17384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0B6C-D6DC-4B7A-AD0C-CB1096C0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5B5-DF34-48B6-AC9D-0566BD24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C9062-0204-443D-BDA3-DAE344EF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8350-213C-4B29-9456-17A6B3A5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7113-48C9-4BD8-9393-2629F452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49ED5-DE66-41AC-9BB5-1B5A86B5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33E83-78B4-49C0-9BD7-77C751D8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7DDC6-019F-4788-B520-A6656A9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DBEB-BC16-46E9-8250-80492396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390C-C8DC-4F16-9B8C-2F10FE3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1CAB0-CC62-4A21-A4F2-340DF728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69311-506F-4E89-A18C-131D91C8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D0C-C528-4A10-A16E-DE7B2C97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1292A-DF05-4FC0-9839-236E6075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0B73E-A70C-4328-A6B0-5045481D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30575-0DB6-428B-AE67-2F86082C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B0446-CC26-4B3F-BAC1-4499950B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BFFB9-C267-42B1-B727-73A673E8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72157-09B6-4988-BCEA-49E98956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62F9-4CAF-4E48-9604-67AC97B6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7AAAD-6010-4CF8-89AB-7863EA1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5DEFA-7034-4325-9587-0DFE5451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1373-012B-434B-9582-B7441BC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C60-1A48-4C00-9D17-A2CBD884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25BE8-DC0D-42B0-B112-0C6A0158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DA7C3-9A17-44C4-8F95-C38F65F9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2C73D-9E71-408C-8571-EE990367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8D10D-A92A-471C-B19B-9591029F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1C899-E7EB-4429-88E2-027C093C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CC550-55CE-4FC1-A9FD-52658BE5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F3106-8DB5-4A07-A5B1-3C709B83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9B44B-AF02-4853-B736-3BB85F7D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84AD8-D568-40CB-AC48-32344336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53E58-1353-453B-AEB8-B0416390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38D-7F38-4D0B-B0DF-1E3FA6C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43F72-1687-451D-9014-5A24BCD7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1669C-55DB-456E-98A4-424176CB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4317-9600-4213-ACF4-B8D6519F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A911D-C335-4518-AB4F-9F242E1F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FFB35-67F8-4E04-97D8-2C180A05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3275C-2BBE-40A9-BCF3-4CB0D8EA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5B991-08FE-458E-BE02-A8423AC0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BBA52-83B8-4D0E-AE28-948EDCBB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1D98E-4ACD-4814-9B82-BCB5B417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F0CE3-89B0-4A5A-A32F-DC108440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F6B-0C3C-495E-A49A-C2FB88F7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CFA8-A11D-4A91-BDEC-B6004CD3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3F9F7-9D68-457B-8489-30CA0391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47EE0-9586-4D2C-9C88-FA1EE188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2DC80-C511-494F-9FA3-B1BE8FD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2A301-5250-4E24-927B-D1DD2088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D057F-B080-42EA-9F5A-B0328D23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D97C7-6263-4BB9-8B18-D35ACB04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2DAD6-0996-4D5C-9067-2BD6E112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0D14B-D2E3-4F02-9E8D-07BE28E9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08A50-FB0E-44B9-AC3E-CDF4B9F5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B7A3-EF99-4C6A-8315-2A45A2BF6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3D51-1BA3-4CC7-B234-D1223DF218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AC5A-7DFA-49F0-8556-5FB25212D6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2B7E-68A9-48DF-A53D-4BA1FB543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B1F0-C54D-44C8-8DC9-24AFC36079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80A7-B1EA-4452-A217-3F5FBAF6AA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0CA3-1BAE-4CF3-93DE-B839C51E5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7724-BA44-41FA-8370-6067A5E287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94F9-754F-40BC-9981-B58E75C038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F253-2CCB-4249-9877-C7457D3B4A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5414-C3B7-404A-8051-A55EC0146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560B-2E26-4D60-8D42-6808FC6490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73B3-92CB-49C5-B79F-D6B6552780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86EF-59B4-4FD6-9A07-CB7487AA9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563C-2C60-467F-ACD6-01FEB23BC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01BF-10F4-48C2-B602-C2D51EB091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9F1A-2404-4621-A837-078226178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4EDE-0CFE-4C0C-ADA3-AEE2D48A33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744C-8871-43E8-A729-7776381072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BF5F-A2DE-4B97-B5CC-F218C86C56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F14D-FFD1-4FA3-AF23-34DD3AFE3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4571-418A-489A-B8C5-8ECFCD9EC7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CB88-8702-4591-9ED5-6A611F750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A8B2-6ED3-44EB-BF03-661ACFBD59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B2BF-A0A3-405A-ACFC-86EF1B0145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DCEF-F867-4A2D-BCA6-BC775D4101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19E0-9BBC-4E58-9573-FD7D409769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A93C-52AC-48DB-B709-BE53B3853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3192-0C79-49E5-BD13-A6F11940BE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4BD7-F311-47F2-8ACB-430291595D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E59-A8D3-4961-BB2F-5936CD373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978-4FA1-4122-B109-77C17B7BB2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9AFE-7C1A-4CA3-8824-C869F42972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1FBE-2DCF-4EC6-A54A-737BC12320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6F96-09E5-46FC-A7DD-A343DB79E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2BEC-B082-43D6-8ABC-6C69684B76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DB56-87B1-4A37-83D2-8164E84238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66C3-22B3-45D3-9232-1BCFE7401C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4CF3-884D-4B1A-B93D-D37CA425E7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352D-6E8A-41FE-A7DD-AA8FE6ADF2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009800" y="2319480"/>
            <a:ext cx="71244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49160"/>
            <a:ext cx="8259840" cy="6072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5" descr=""/>
          <p:cNvPicPr/>
          <p:nvPr/>
        </p:nvPicPr>
        <p:blipFill>
          <a:blip r:embed="rId2"/>
          <a:stretch/>
        </p:blipFill>
        <p:spPr>
          <a:xfrm>
            <a:off x="8204040" y="2735280"/>
            <a:ext cx="397080" cy="392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1325520" y="3274920"/>
            <a:ext cx="1575000" cy="392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5243400" y="3274920"/>
            <a:ext cx="3113280" cy="392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5079960" y="4162320"/>
            <a:ext cx="1575000" cy="392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1974960" y="4624560"/>
            <a:ext cx="1962000" cy="392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4610160" y="5049720"/>
            <a:ext cx="396720" cy="392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8"/>
          <a:stretch/>
        </p:blipFill>
        <p:spPr>
          <a:xfrm>
            <a:off x="1797120" y="5958000"/>
            <a:ext cx="11048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458200" cy="53625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2"/>
          <a:stretch/>
        </p:blipFill>
        <p:spPr>
          <a:xfrm>
            <a:off x="7824960" y="2795760"/>
            <a:ext cx="534960" cy="392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3"/>
          <a:stretch/>
        </p:blipFill>
        <p:spPr>
          <a:xfrm>
            <a:off x="7824960" y="5095800"/>
            <a:ext cx="5349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371520" y="1890720"/>
            <a:ext cx="8400960" cy="3076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2"/>
          <a:stretch/>
        </p:blipFill>
        <p:spPr>
          <a:xfrm>
            <a:off x="7937640" y="1890720"/>
            <a:ext cx="895320" cy="392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3"/>
          <a:stretch/>
        </p:blipFill>
        <p:spPr>
          <a:xfrm>
            <a:off x="655560" y="2554200"/>
            <a:ext cx="1944720" cy="392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4"/>
          <a:stretch/>
        </p:blipFill>
        <p:spPr>
          <a:xfrm>
            <a:off x="6362640" y="2362320"/>
            <a:ext cx="2046240" cy="825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5"/>
          <a:stretch/>
        </p:blipFill>
        <p:spPr>
          <a:xfrm>
            <a:off x="3378240" y="3187800"/>
            <a:ext cx="2046240" cy="8236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6"/>
          <a:stretch/>
        </p:blipFill>
        <p:spPr>
          <a:xfrm>
            <a:off x="5951520" y="4067280"/>
            <a:ext cx="108432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7943760" cy="4114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2" descr=""/>
          <p:cNvPicPr/>
          <p:nvPr/>
        </p:nvPicPr>
        <p:blipFill>
          <a:blip r:embed="rId2"/>
          <a:stretch/>
        </p:blipFill>
        <p:spPr>
          <a:xfrm>
            <a:off x="571680" y="4991040"/>
            <a:ext cx="7277040" cy="1866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"/>
          <p:cNvPicPr/>
          <p:nvPr/>
        </p:nvPicPr>
        <p:blipFill>
          <a:blip r:embed="rId3"/>
          <a:stretch/>
        </p:blipFill>
        <p:spPr>
          <a:xfrm>
            <a:off x="1397160" y="1590840"/>
            <a:ext cx="2674800" cy="825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4"/>
          <a:stretch/>
        </p:blipFill>
        <p:spPr>
          <a:xfrm>
            <a:off x="5173560" y="1701720"/>
            <a:ext cx="2675160" cy="824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5"/>
          <a:stretch/>
        </p:blipFill>
        <p:spPr>
          <a:xfrm>
            <a:off x="1492200" y="3575160"/>
            <a:ext cx="2940120" cy="3920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6"/>
          <a:stretch/>
        </p:blipFill>
        <p:spPr>
          <a:xfrm>
            <a:off x="1546200" y="4286160"/>
            <a:ext cx="2940120" cy="443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7"/>
          <a:stretch/>
        </p:blipFill>
        <p:spPr>
          <a:xfrm>
            <a:off x="5173560" y="3417840"/>
            <a:ext cx="3705480" cy="824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8"/>
          <a:stretch/>
        </p:blipFill>
        <p:spPr>
          <a:xfrm>
            <a:off x="863640" y="5918040"/>
            <a:ext cx="6832440" cy="392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9"/>
          <a:stretch/>
        </p:blipFill>
        <p:spPr>
          <a:xfrm>
            <a:off x="847800" y="6404040"/>
            <a:ext cx="68324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76200" y="1333440"/>
            <a:ext cx="8391600" cy="4191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2"/>
          <a:stretch/>
        </p:blipFill>
        <p:spPr>
          <a:xfrm>
            <a:off x="7920000" y="2901960"/>
            <a:ext cx="541440" cy="392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3"/>
          <a:stretch/>
        </p:blipFill>
        <p:spPr>
          <a:xfrm>
            <a:off x="3552840" y="4633920"/>
            <a:ext cx="909720" cy="392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4"/>
          <a:stretch/>
        </p:blipFill>
        <p:spPr>
          <a:xfrm>
            <a:off x="2398680" y="5070600"/>
            <a:ext cx="911160" cy="392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5"/>
          <a:stretch/>
        </p:blipFill>
        <p:spPr>
          <a:xfrm>
            <a:off x="7251840" y="5070600"/>
            <a:ext cx="9111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714240" y="1119240"/>
            <a:ext cx="6829560" cy="49528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2"/>
          <a:stretch/>
        </p:blipFill>
        <p:spPr>
          <a:xfrm>
            <a:off x="1220760" y="2055960"/>
            <a:ext cx="6108840" cy="392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"/>
          <p:cNvPicPr/>
          <p:nvPr/>
        </p:nvPicPr>
        <p:blipFill>
          <a:blip r:embed="rId3"/>
          <a:stretch/>
        </p:blipFill>
        <p:spPr>
          <a:xfrm>
            <a:off x="1268280" y="2549520"/>
            <a:ext cx="6107400" cy="392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4"/>
          <a:stretch/>
        </p:blipFill>
        <p:spPr>
          <a:xfrm>
            <a:off x="1179360" y="3106800"/>
            <a:ext cx="6108840" cy="3920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5"/>
          <a:stretch/>
        </p:blipFill>
        <p:spPr>
          <a:xfrm>
            <a:off x="1235160" y="3951360"/>
            <a:ext cx="6108480" cy="3920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6"/>
          <a:stretch/>
        </p:blipFill>
        <p:spPr>
          <a:xfrm>
            <a:off x="1219320" y="4437000"/>
            <a:ext cx="6107040" cy="392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7"/>
          <a:stretch/>
        </p:blipFill>
        <p:spPr>
          <a:xfrm>
            <a:off x="1346040" y="4867200"/>
            <a:ext cx="6107400" cy="392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8"/>
          <a:stretch/>
        </p:blipFill>
        <p:spPr>
          <a:xfrm>
            <a:off x="1328760" y="5353200"/>
            <a:ext cx="610884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380880" y="1042920"/>
            <a:ext cx="8382240" cy="5172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2"/>
          <a:stretch/>
        </p:blipFill>
        <p:spPr>
          <a:xfrm>
            <a:off x="466560" y="2009880"/>
            <a:ext cx="7697880" cy="390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3"/>
          <a:stretch/>
        </p:blipFill>
        <p:spPr>
          <a:xfrm>
            <a:off x="449280" y="2495520"/>
            <a:ext cx="7697880" cy="3906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4"/>
          <a:stretch/>
        </p:blipFill>
        <p:spPr>
          <a:xfrm>
            <a:off x="433440" y="2908440"/>
            <a:ext cx="7697880" cy="392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5"/>
          <a:stretch/>
        </p:blipFill>
        <p:spPr>
          <a:xfrm>
            <a:off x="560520" y="3386160"/>
            <a:ext cx="76975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614520" y="1376280"/>
            <a:ext cx="7914960" cy="41054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2"/>
          <a:stretch/>
        </p:blipFill>
        <p:spPr>
          <a:xfrm>
            <a:off x="365040" y="2220840"/>
            <a:ext cx="4664160" cy="392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3"/>
          <a:stretch/>
        </p:blipFill>
        <p:spPr>
          <a:xfrm>
            <a:off x="347760" y="2690640"/>
            <a:ext cx="4665600" cy="3924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4"/>
          <a:stretch/>
        </p:blipFill>
        <p:spPr>
          <a:xfrm>
            <a:off x="250920" y="3105000"/>
            <a:ext cx="4665600" cy="3906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" descr=""/>
          <p:cNvPicPr/>
          <p:nvPr/>
        </p:nvPicPr>
        <p:blipFill>
          <a:blip r:embed="rId5"/>
          <a:stretch/>
        </p:blipFill>
        <p:spPr>
          <a:xfrm>
            <a:off x="235080" y="3535200"/>
            <a:ext cx="4663800" cy="3924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" descr=""/>
          <p:cNvPicPr/>
          <p:nvPr/>
        </p:nvPicPr>
        <p:blipFill>
          <a:blip r:embed="rId6"/>
          <a:stretch/>
        </p:blipFill>
        <p:spPr>
          <a:xfrm>
            <a:off x="361800" y="3965400"/>
            <a:ext cx="4664160" cy="392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"/>
          <p:cNvPicPr/>
          <p:nvPr/>
        </p:nvPicPr>
        <p:blipFill>
          <a:blip r:embed="rId7"/>
          <a:stretch/>
        </p:blipFill>
        <p:spPr>
          <a:xfrm>
            <a:off x="488880" y="4522680"/>
            <a:ext cx="6400800" cy="392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8"/>
          <a:stretch/>
        </p:blipFill>
        <p:spPr>
          <a:xfrm>
            <a:off x="473040" y="5016600"/>
            <a:ext cx="64008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1:42:41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